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BE3-19C6-4BE7-9FA4-6BB90D5D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C00-6A54-41E1-A313-5D30BBE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BFF2C-5E99-4229-8642-5F54A56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5DA0-BE08-42E8-9399-F1F00207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456E-427E-4F7B-BDB1-8A3FD8B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700C7-DC79-4AC8-8CF6-79397C9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3677F-1D48-48DD-9984-125E66A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FBC7B-A6E3-4374-9493-9C7B6AB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A640A-640E-4828-AC68-631D7017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197A2-4629-44CC-887C-8517DE35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8B70E-7FC3-4E14-B4BC-460C6416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62BEC-1A5C-4B97-A41F-3A311D48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75D-C65D-4B2D-815B-D052F1E0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FD4EF-15E3-43AA-A63E-D5F0200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5711D-5815-4C67-98F2-56C291DC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025A8-6FF0-4878-9F14-FFFE6439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FC29A-71CF-4F2F-856D-25A8EE7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E1EB5-3CB2-4554-90AA-F903BC1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4B26C-14B2-4593-9711-126516E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9D050-0C3C-495A-A416-A818649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1FAF2-321E-4D34-88D7-162075D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0E83E-4353-4E2F-ABD2-2CC8F7CD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7E78B-9C0E-4FE4-86E7-28BAA9B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8FE-5F68-4750-95EF-C685F45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910E4-B24E-4611-A55E-19213825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BE39A-3A4D-4DD6-B6D3-12DBFDBD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8794E-5AF7-4A1A-B2AC-CB48A0A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0F1C-5E73-4CEB-BFEA-EC8CBA8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23280-74FF-4F10-8240-60CC9EF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ED934-A437-49AD-8E27-EEC3052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632EC-69B0-4B62-9181-BB4369C9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E3215-9344-46FD-8015-359EFA6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3D22-3F93-438F-94FB-83E8F40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F918-B8CF-4686-A98D-C06DD0B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40B-9EEA-4D6D-8516-EE5BA08E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AB9DA-8DA6-4E26-926A-3B2F573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E07D4-ADA6-40C2-AE3C-DFC7EF9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3D663-1FB6-4A3F-B664-2639EE3D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06826-5E35-47FB-B7BD-54BBF281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F9A9B-02B6-452B-A8F7-D639896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B91B1-9172-4001-AFA5-4BE8F5C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BA213-3A1E-4DDE-BC10-7711341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07E76-18F5-4739-9E2D-127EACC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DF493-6F48-4987-8ED1-5146D26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AFDCC-B1CD-41FF-B95F-410DA2D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7451-C90A-40DD-8F88-CCE80DC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72020-19D8-4DA9-A324-F84C6D8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D9B47-2BE1-4969-B600-E498786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18AFA-CDCC-4C76-A135-455FAFAD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3524-5666-4A2C-A85F-936DF601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162FE-2BD7-4E66-A669-80C1D425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844-FECF-4C6A-B821-ACA065D9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332-50CA-413C-9467-7DE9BF35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E9D-66FC-47D9-8BD6-890D2F8A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C8D-A464-412F-9999-2E3135F8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16B-8A8F-4219-A6C7-2C98DF7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C1F-5F96-4973-9FBC-49888C2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1F0-3898-4282-A346-5514FBA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9CD7-B77D-4BB1-8F7F-1CE064C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AB6-967D-4743-8E97-361BEC5C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F282-EEE9-4FCF-BD44-355CD877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2A91-BA79-4D9E-9A31-FB961E58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77A3-1933-4AEF-8C63-A9BE7980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E1B4-76A0-400A-827B-DD58A51E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384D-2784-4194-BF51-113CAC82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9A26-593D-46A2-941A-E8520D1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440B-F9F2-4547-B220-DDD057F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FB1-03F4-49A8-9ED4-6EDB86E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1655-79BD-424F-8C50-DD6FFFE1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94FD-035D-40E3-BC05-1978818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B4FE-B45B-4E39-AB9E-1B643381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747D-FF69-4DDB-932F-1EFE687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BD0E-EA74-4C3F-9F47-F5CB6A9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3D2C-ABC7-4EA1-B938-6032AF94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25E9-B188-4DBC-A444-6506D907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CFAB-5470-4FD8-9FCD-0F2193D5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8FF2-F0DB-4E8A-BCF0-8C1217B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D9BC-73E3-44A3-8E87-8D1F8A4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BBA-097F-4105-ABDC-28D83D4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B7A5-67D9-4B8F-8331-6BE62105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7398-A1D8-4A8D-9928-CF8B6BC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A376-47C6-4A06-B5C7-5327868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8CAB-E93B-4CB7-8256-06923C58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9177-A9CB-4BD2-ADCB-17347C5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A4D5-4112-49B7-9E76-31F90C9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C177-C96B-444F-BEBD-95D8AA2C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0ADB-5F19-4F72-B5F0-47CC0B4E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2FF0-738C-409E-A4AE-76D61DF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9168-51E3-40E7-80C3-59E3EB65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671-DAF0-41F6-A7CF-932D6B3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A451-3FD7-4F7F-A1B9-79210DA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4D85-3288-4C76-8CFB-3A3003C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CA4B-E9F7-41AB-A5DE-B97B7BAD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12E3-9C44-41E9-9F12-1F07020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17B8-5F44-46E4-B1C1-DD6ED7C8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62DB0-29E6-4E50-8C21-0EBD2E4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25DF-6026-4CC4-BA66-671D4F1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D2D4-936E-4F3E-980E-7DDAEB0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767BD-54E2-4F0A-B596-FC5EC9A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2461-0244-4FA6-B3EA-D61AF29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C10-0C10-479E-AE74-453A936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86F3-9FD6-4107-8394-6BCDC0D7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A28A-0D44-4D33-B5BE-9B807341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E4DA-0FB9-40C3-A50A-3134BC3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1DEB2-71F9-467C-89C3-D5D2FB6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A8B4A-B8EC-4659-8F27-9E00DDB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08BC-070D-4CE3-AC75-6197C1F5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1D4F-1D5F-408B-8A8D-E7A2E3F2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2270-A5F1-4BD9-AD58-CFEB1CB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C2C84-F1D6-430D-AA0E-B4A58B5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7F26-C555-48C8-BAD9-A320801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49A-C3B7-4606-A3F1-4CC187F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233C-9C85-4C98-9933-A834E61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58C9-13C0-4881-900F-68338106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A52A-4B99-4ED3-A49A-2E123899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5175-2B5F-42AE-BB27-DBA2050A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8721-75B4-4D5C-BF94-E13DF3F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5F9F-CC48-457D-8B88-FEB286E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8D35-ACBC-4EC6-B5C1-48D21E7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36E3-CCE1-49FB-BE97-832DCA5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50AD-E475-4B56-8538-12DE662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D76C-E2B2-470E-A9A1-F937603C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FFD-BFC2-4CE8-8EF9-6CC33D4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7254-59FC-4B96-B0FF-BD25163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2208-04F2-4018-BCA2-A2EE571C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BC48-8EA4-4BE4-BEC0-452DAC13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54B9-6CD3-4A39-AFC5-9CEEC8DE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DE27-EC8C-4D8B-8426-EEBBC82B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8E894-C775-46C8-B092-18F4BC1A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3D4F-0F76-4A04-B080-B4D76682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40D61-CB90-4EB2-B648-9B558E3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082D-9385-4EE9-A0FA-4D42BB1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52A4D-8795-4EA0-945C-AE078E5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A9E-E3B6-462E-991F-97AACE0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D66CD-219C-4310-848E-42F85001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3DEE-AA56-4C46-97FD-5FA0678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294A5-0C96-4B80-AB7E-2E2E2EC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AA907-CCE7-42B4-ABCA-C33D8BB5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FC8B-5A1C-466F-952B-1ADB891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CEF0-E937-4285-B1F3-6F911694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4BA69-F27E-41BF-BC8C-87C8167B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C44E-BFF0-43F9-B277-C9B93BD3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AEB5-B5BD-47CE-BAE7-7299563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9E97-3070-4129-A1C2-2692CB51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C17-5F1F-48FD-9794-B1F03666A5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AE7D-FE15-41CE-93DC-C7E061BE98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E3C5-C24E-4511-A869-C64D0690CF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6EF-48B1-4AE2-AB38-25210D967A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926-E6DC-455F-A472-C15A064938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177-A18E-4FF1-A217-5DDF1088B4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3475-175A-4A9D-8EAF-90B8359E5A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716-9C06-4EB2-BDDA-7A5DD1F85F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427-A31B-4C03-9401-9B39BE5B68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93A-85CB-440B-984D-AAB0474841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3E24-516E-44E6-BBA4-1227610D5B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711C-0118-4487-91BB-EFEB194273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5 Prehojné žehnanie z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hojné žehnanie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chce Otec nám dať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jlepšie vie on, čo tr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chce pri nás vždy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hojné žehnanie dáv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 komu dať chc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cte kto pred ním sa skláň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ou mu v ústrety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hojné žehnanie dost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ľud vykúp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ríčny dážď keď mu posl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Pán osláv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hojné žehnanie Bož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revádza dosiaľ aj nás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koľvek stihnúť nás môž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ľud svoj ochrán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j zúročiť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8:00:28Z</dcterms:modified>
  <cp:revision>20</cp:revision>
  <dc:subject/>
  <dc:title>Je veľký náš Pán, on slávy je Kráľ Nech do všetkých strán  spev vrúcnych znie chvál.</dc:title>
</cp:coreProperties>
</file>